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75C3-16EF-4BFF-B97F-964172222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B15E-D330-4E6D-854B-CE73AE9A6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0B1-EF0B-4274-90D6-EA777877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5EA-F50D-4451-9BEC-C36A3F06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4A6-1578-4B35-AA9B-8AD1706B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4BD3-3429-46BA-BBB4-A64C8755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930-C3B7-4249-AE94-26A386AA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835-8C3E-402B-AB92-8442409F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829-3178-4791-8AD2-A62C1DD3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BB4-58A4-47B8-8B28-0DDAE9F5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0EC-B868-407F-BC7C-E05D00D8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AC1-12BA-4464-901B-54F2D763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A9A-C807-4DCB-8BF3-B5E8FC48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26C-0989-4BFF-AB88-3472F4E0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A394-98E3-4C75-837C-DE6053C20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rs. Brown Went to Tow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i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mad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sam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hid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li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giv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sid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a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fi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hav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shak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wri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rs. Brown Went to T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id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i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siz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mad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rs. Brown Went to T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5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hak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write 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ran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makeup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1120" y="15998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9. quak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0. firehous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1. mistak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2. chas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5. bracele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6. smil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7. insid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8. chime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3040" y="-360"/>
            <a:ext cx="4800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3. scrap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4. replac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5. compar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6. shap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 </cp:lastModifiedBy>
  <dcterms:modified xsi:type="dcterms:W3CDTF">2008-09-28T19:58:20Z</dcterms:modified>
  <cp:revision>3</cp:revision>
  <dc:subject/>
  <dc:title>The Art Lesson Group A</dc:title>
</cp:coreProperties>
</file>